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5c84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440" y="255240"/>
            <a:ext cx="1036800" cy="4423320"/>
          </a:xfrm>
          <a:prstGeom prst="rect">
            <a:avLst/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176480" y="174600"/>
            <a:ext cx="7161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119400" y="6566040"/>
            <a:ext cx="29052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 marL="307800" indent="-307800">
              <a:lnSpc>
                <a:spcPct val="115000"/>
              </a:lnSpc>
              <a:spcAft>
                <a:spcPts val="774"/>
              </a:spcAft>
              <a:tabLst>
                <a:tab algn="l" pos="0"/>
                <a:tab algn="l" pos="40968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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right 1999 Prentice H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8209080" y="84240"/>
            <a:ext cx="795240" cy="2476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</a:t>
            </a:r>
            <a:fld id="{13BCDBB3-2171-4C68-BD09-EEB80B7B2C9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aseball bo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 Black"/>
              </a:rPr>
              <a:t>Lesson 6.4 – Merchandising</a:t>
            </a:r>
            <a:r>
              <a:rPr b="0" lang="en-US" sz="3600" spc="-1" strike="noStrike">
                <a:solidFill>
                  <a:srgbClr val="3365fb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867280" y="63244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666880" y="1752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Online Merchand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380880" y="25146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2999880"/>
            <a:ext cx="8507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Organizations maximize income by provid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ustomized shopping environment and a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onsumers access to a wider variety of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and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e-commerce sales reached $2.3 trillion la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ar, and are expected to nearly double to $4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llion by 20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94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am2"/>
          <p:cNvPicPr/>
          <p:nvPr/>
        </p:nvPicPr>
        <p:blipFill>
          <a:blip r:embed="rId1"/>
          <a:stretch/>
        </p:blipFill>
        <p:spPr>
          <a:xfrm>
            <a:off x="838080" y="1219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e com"/>
          <p:cNvPicPr/>
          <p:nvPr/>
        </p:nvPicPr>
        <p:blipFill>
          <a:blip r:embed="rId2"/>
          <a:stretch/>
        </p:blipFill>
        <p:spPr>
          <a:xfrm>
            <a:off x="7010280" y="106668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01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571680" y="1676520"/>
            <a:ext cx="468612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Arial"/>
              </a:rPr>
              <a:t>After Toronto won the NBA Championship in 2019, the Raptors broke an NBA Store merchandise sales record in the days following the team’s championship w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Arial"/>
              </a:rPr>
              <a:t>Sales of a "Board Man Gets Paid" t-shirt ($39) worn by NBA Finals MVP Kawhi Leonard at the team’s victory parade sold out within two hours of its release on New Balance's website, according to Sports Illust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205680" y="138600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205680" y="401328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09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36"/>
          <p:cNvSpPr/>
          <p:nvPr/>
        </p:nvSpPr>
        <p:spPr>
          <a:xfrm>
            <a:off x="571680" y="1676520"/>
            <a:ext cx="75816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Arial"/>
              </a:rPr>
              <a:t>The Kansas City Chiefs became the second-best-selling Super Bowl Champion of all-time in 20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  <a:ea typeface="Arial"/>
              </a:rPr>
              <a:t>In the first hour following their Super Bowl win, 82% of merchandise sales were purchased on mobile devices, setting a Fanatics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Kansas City Chiefs win Super Bowl: Shop shirts, hats, more"/>
          <p:cNvPicPr/>
          <p:nvPr/>
        </p:nvPicPr>
        <p:blipFill>
          <a:blip r:embed="rId1"/>
          <a:stretch/>
        </p:blipFill>
        <p:spPr>
          <a:xfrm>
            <a:off x="2367000" y="4208400"/>
            <a:ext cx="4565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133720" y="175212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Online Distribution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380880" y="25146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18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j0439258"/>
          <p:cNvPicPr/>
          <p:nvPr/>
        </p:nvPicPr>
        <p:blipFill>
          <a:blip r:embed="rId1"/>
          <a:stretch/>
        </p:blipFill>
        <p:spPr>
          <a:xfrm>
            <a:off x="0" y="32004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2666880" y="274320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Direct shipping to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In-store pi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j0127675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743200" y="1599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Online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52280" y="2743560"/>
            <a:ext cx="8610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Easier to control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Opportunity to offer exclusive merchand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Opportunities to reach out-of-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29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295280" y="1600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Reaching out-of-marke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36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80880" y="22860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ccording to USA Today, sales at the NASCAR.com Superstore jumped 359% after Dale Earnhardt Jr. announced h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 be joining a new team, even though images of the new merchandise weren't yet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4" descr=""/>
          <p:cNvPicPr/>
          <p:nvPr/>
        </p:nvPicPr>
        <p:blipFill>
          <a:blip r:embed="rId1"/>
          <a:stretch/>
        </p:blipFill>
        <p:spPr>
          <a:xfrm>
            <a:off x="2514600" y="4114800"/>
            <a:ext cx="41911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295280" y="1600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Reaching out-of-marke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45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80880" y="22860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 Albuquerque Isotopes promotion in which they changed the team name to the “Green Chile Cheeseburgers” for one night was so successful that the team had a hard time keeping merchandise in stock from the moment they put it on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40734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95280" y="1600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Reaching out-of-marke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54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685800" y="2438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or League Baseball credits the advantages afforded by online merchandising for its sales growth (of the top 25 teams, all 25 have online stores using the MiLBStore.com plat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057400" cy="1662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"/>
          <p:cNvPicPr/>
          <p:nvPr/>
        </p:nvPicPr>
        <p:blipFill>
          <a:blip r:embed="rId2"/>
          <a:stretch/>
        </p:blipFill>
        <p:spPr>
          <a:xfrm>
            <a:off x="4724280" y="411480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295280" y="1600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Reaching out-of-marke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64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380880" y="2228760"/>
            <a:ext cx="57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d on jersey sales, one of the most popular teams at the 2018 FIFA World Cup was Nig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380880" y="3733920"/>
            <a:ext cx="49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  <a:ea typeface="Times New Roman"/>
              </a:rPr>
              <a:t>According to CNBC, the kits (uniforms), designed exclusively for the tournament in Russia, sold out online in minutes as Nike received more than 3 million pre-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5791320" y="2239920"/>
            <a:ext cx="29718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2438280" y="159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Online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52280" y="2776320"/>
            <a:ext cx="861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ecurity concerns in making transaction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otentially higher distribution (delivery)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onsumers inability to touch, feel or 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est-drive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roducts before buying can be a deterrent and 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o higher retur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75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04920" y="26668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When the demand for licensed products is minimal, an organization may choose to handle their merchandi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in-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0" y="1828800"/>
            <a:ext cx="0" cy="396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029200" y="21301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n-house Merchand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managing the merchandising process within the organization itself, rather than outsourcing or acquiring lic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0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438280" y="1599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Online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838080" y="246744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at growth of e-commerce does not necessarily signal the end for brick and mortar retail however, as physical store fronts still provide organizations with a valuable opportunity to sell merchand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83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2286000" y="160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Future of Brick &amp; Mo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762120" y="249588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or example, following the team’s relocation and subsequent rebrand (the Mobile BayBears became the Rocket City Trash Pandas) upon their move to Huntsville, Alabama, the franchise set a sales record when they sold $2 million in licensed merchand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91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Rocket City Trash Pandas moving merchandise store to bigger storefront"/>
          <p:cNvPicPr/>
          <p:nvPr/>
        </p:nvPicPr>
        <p:blipFill>
          <a:blip r:embed="rId1"/>
          <a:stretch/>
        </p:blipFill>
        <p:spPr>
          <a:xfrm>
            <a:off x="3048120" y="4581360"/>
            <a:ext cx="3352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011760" y="9144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896560"/>
            <a:ext cx="4241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he team’s original retail location was too small to handle the number of visitors and they were forced to move to a new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early 76% of all Trash Pandas merchandise was sold at the team’s brick and mortar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99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Rocket City Trash Panda gear now available! – LaunchPad Huntsville"/>
          <p:cNvPicPr/>
          <p:nvPr/>
        </p:nvPicPr>
        <p:blipFill>
          <a:blip r:embed="rId1"/>
          <a:stretch/>
        </p:blipFill>
        <p:spPr>
          <a:xfrm>
            <a:off x="4732200" y="2847960"/>
            <a:ext cx="3954600" cy="29671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2286000" y="160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Future of Brick &amp; Mor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306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4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four key considerations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-site merchand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1905120" y="2561400"/>
            <a:ext cx="66294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location of where the merchandise is being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physical layout and appeal of where the merchandise is being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w well the sales operation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-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appeal of the merchandise or product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09480" y="152352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Steps in the in-house merchandising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04920" y="2358000"/>
            <a:ext cx="86104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1) Design the logo and slogan or tagline (if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already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2) Determine merchandise type, quality an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3) Interview local merchants (vendors) and selec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company that can best fit the organization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4) Determine distribution out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5) Train sales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6) Prepare on-site merchandis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8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09480" y="30481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f an organization feels an in-house merchandising approach may not be the most efficient strategy, they may choose to outsource the effort to a third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4" name="Text Box 6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143000" y="17521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Outsourcing the merchandising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228600" y="2514600"/>
            <a:ext cx="8686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51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04920" y="19868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5d"/>
                </a:solidFill>
                <a:latin typeface="Verdana"/>
              </a:rPr>
              <a:t>For example, the Big 10 Conference signed an exclusive deal with sports retail vendor MainGate to sell merchandise for its football championship and the men</a:t>
            </a:r>
            <a:r>
              <a:rPr b="0" lang="ja-JP" sz="2400" spc="-1" strike="noStrike">
                <a:solidFill>
                  <a:srgbClr val="16165d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16165d"/>
                </a:solidFill>
                <a:latin typeface="Verdana"/>
              </a:rPr>
              <a:t>s and women</a:t>
            </a:r>
            <a:r>
              <a:rPr b="0" lang="ja-JP" sz="2400" spc="-1" strike="noStrike">
                <a:solidFill>
                  <a:srgbClr val="16165d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16165d"/>
                </a:solidFill>
                <a:latin typeface="Verdana"/>
              </a:rPr>
              <a:t>s basketball tourna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1793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28600" y="29718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Organizations maximize income through the sales of food and beverage and 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648320" y="1828800"/>
            <a:ext cx="0" cy="396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029200" y="25750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On-site Merchand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the process of selling merchandise at the physical location of the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62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04920" y="167616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Four key considerations of on-site merchand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228600" y="2438280"/>
            <a:ext cx="8686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04920" y="2816640"/>
            <a:ext cx="8610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location of where the merchandise is being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physical layout and appeal of where the merchandise is being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How well the sales operation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appeal of the merchandise or product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0" name="Text Box 12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5800" y="175212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  <a:ea typeface="Times New Roman"/>
              </a:rPr>
              <a:t>Best practices for selling on-site merchand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380880" y="25146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80880" y="2968560"/>
            <a:ext cx="850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heaviest traffic for merchandising is upo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arrival and depa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est marketing is important to ensu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effectiveness of a good o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raining of sales personnel varies with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8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134520" y="9144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04920" y="21448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Making merchandise available online or through social media creates new sales channels for a sports or entertainment organization’s fans to purchase related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572000" y="1828800"/>
            <a:ext cx="0" cy="396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029200" y="26640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Online Merchandi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s to the process of selling merchandise on the Internet andthrough  social media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86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03:36Z</dcterms:created>
  <dc:creator>Copyright © 2012 by Sports Career Consulting, LLC</dc:creator>
  <dc:description/>
  <dc:language>en-US</dc:language>
  <cp:lastModifiedBy>Chris Lindauer</cp:lastModifiedBy>
  <dcterms:modified xsi:type="dcterms:W3CDTF">2020-08-21T01:18:02Z</dcterms:modified>
  <cp:revision>345</cp:revision>
  <dc:subject/>
  <dc:title>Lesson 6.4 - Slides-Merchandising</dc:title>
</cp:coreProperties>
</file>