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5c84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440" y="255240"/>
            <a:ext cx="1036800" cy="4423320"/>
          </a:xfrm>
          <a:prstGeom prst="rect">
            <a:avLst/>
          </a:prstGeom>
          <a:solidFill>
            <a:srgbClr val="063de8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176480" y="174600"/>
            <a:ext cx="7161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119400" y="6566040"/>
            <a:ext cx="29052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 marL="307800" indent="-307800">
              <a:lnSpc>
                <a:spcPct val="115000"/>
              </a:lnSpc>
              <a:spcAft>
                <a:spcPts val="774"/>
              </a:spcAft>
              <a:tabLst>
                <a:tab algn="l" pos="0"/>
                <a:tab algn="l" pos="40968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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yright 1999 Prentice H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8209080" y="84240"/>
            <a:ext cx="795240" cy="24768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</a:t>
            </a:r>
            <a:fld id="{3BF5A5EE-2907-412E-86FF-34C94E3832B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Baseball bo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0" y="15228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 Black"/>
              </a:rPr>
              <a:t>Lesson 6.3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eff"/>
                </a:solidFill>
                <a:latin typeface="Arial Black"/>
              </a:rPr>
              <a:t>The Licens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867280" y="6324480"/>
            <a:ext cx="32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2362320" y="1599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The Licens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457200" y="236232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54960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93" name="Text Box 1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228600" y="2666880"/>
            <a:ext cx="853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Licensees pay a licensing 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Licensees pay a royalty for the us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pecific trademarks on specific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Licensees taking on production issu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assuming the risk manufacturing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838080" y="15994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The Licensing Process (Music Indus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380880" y="228600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54960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01" name="Text Box 6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28600" y="25909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hear a Missy Elliot or Busta Rhymes song while watching a Doritos/Mtn Dew advertisement during the 2018 Super Bowl, the brand likely invested a significant sum of money for the rights in a licensing fee for the rights to use the song in a 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The rights to use music through a licens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bought and sold every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838080" y="15994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The Licensing Process (Music Indus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380880" y="228600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54960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09" name="Text Box 6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7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380880" y="243828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Listening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Watching a movie and hearing music during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particular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Listening to music on Rhapsody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Hearing music in a restaurant or st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Watching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American Idol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contestants perform h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ongs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14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Intro to Basic SEM Princi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5"/>
          <p:cNvSpPr/>
          <p:nvPr/>
        </p:nvSpPr>
        <p:spPr>
          <a:xfrm>
            <a:off x="457200" y="1066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tainment Business Financi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57200" y="204156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ording to Variety, the cost to advertisers for using licensed music in Super Bowl commercials ranges from $100,000 to $750,000 for more iconic songs with longer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"/>
          <p:cNvSpPr/>
          <p:nvPr/>
        </p:nvSpPr>
        <p:spPr>
          <a:xfrm>
            <a:off x="76320" y="-1027080"/>
            <a:ext cx="215244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76320" y="-1027080"/>
            <a:ext cx="215244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2629080" y="4022640"/>
            <a:ext cx="4190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600200" y="167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or / Licensee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380880" y="24382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54960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152280" y="289548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Licensing provides greater profit, promo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and legal protection for the lic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The licensor approves the produc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collects the licensing fees and roy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9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27" name="Text Box 10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1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3"/>
          <p:cNvSpPr/>
          <p:nvPr/>
        </p:nvSpPr>
        <p:spPr>
          <a:xfrm>
            <a:off x="380880" y="24382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457200" y="2590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Warner Brothers granted permission to Electronic Arts to use the Harry Potter character for the development of a new video game (for a fe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WarnerBrosStudio"/>
          <p:cNvPicPr/>
          <p:nvPr/>
        </p:nvPicPr>
        <p:blipFill>
          <a:blip r:embed="rId1"/>
          <a:stretch/>
        </p:blipFill>
        <p:spPr>
          <a:xfrm>
            <a:off x="228600" y="5257800"/>
            <a:ext cx="2590920" cy="8874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1"/>
          <p:cNvSpPr/>
          <p:nvPr/>
        </p:nvSpPr>
        <p:spPr>
          <a:xfrm>
            <a:off x="2893320" y="5410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6781680" y="541008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7" descr="uninav_logo_black"/>
          <p:cNvPicPr/>
          <p:nvPr/>
        </p:nvPicPr>
        <p:blipFill>
          <a:blip r:embed="rId2"/>
          <a:stretch/>
        </p:blipFill>
        <p:spPr>
          <a:xfrm>
            <a:off x="3886200" y="5486400"/>
            <a:ext cx="2362320" cy="4158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2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37" name="Text Box 2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2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600200" y="167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or / Licensee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354960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7" descr="B00005LW64"/>
          <p:cNvPicPr/>
          <p:nvPr/>
        </p:nvPicPr>
        <p:blipFill>
          <a:blip r:embed="rId3"/>
          <a:stretch/>
        </p:blipFill>
        <p:spPr>
          <a:xfrm>
            <a:off x="7545240" y="5029200"/>
            <a:ext cx="13687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3"/>
          <p:cNvSpPr/>
          <p:nvPr/>
        </p:nvSpPr>
        <p:spPr>
          <a:xfrm>
            <a:off x="380880" y="24382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2590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Warner Brothers granted permission to Electronic Arts to use the Harry Potter character for the development of a new video game (for a fe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WarnerBrosStudio"/>
          <p:cNvPicPr/>
          <p:nvPr/>
        </p:nvPicPr>
        <p:blipFill>
          <a:blip r:embed="rId1"/>
          <a:stretch/>
        </p:blipFill>
        <p:spPr>
          <a:xfrm>
            <a:off x="228600" y="5257800"/>
            <a:ext cx="2590920" cy="8874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2893320" y="5410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6781680" y="541008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7" descr="uninav_logo_black"/>
          <p:cNvPicPr/>
          <p:nvPr/>
        </p:nvPicPr>
        <p:blipFill>
          <a:blip r:embed="rId2"/>
          <a:stretch/>
        </p:blipFill>
        <p:spPr>
          <a:xfrm>
            <a:off x="3886200" y="5486400"/>
            <a:ext cx="2362320" cy="41580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2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50" name="Text Box 2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2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1600200" y="167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or / Licensee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354960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7" descr="B00005LW64"/>
          <p:cNvPicPr/>
          <p:nvPr/>
        </p:nvPicPr>
        <p:blipFill>
          <a:blip r:embed="rId3"/>
          <a:stretch/>
        </p:blipFill>
        <p:spPr>
          <a:xfrm>
            <a:off x="7545240" y="5029200"/>
            <a:ext cx="13687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3"/>
          <p:cNvSpPr/>
          <p:nvPr/>
        </p:nvSpPr>
        <p:spPr>
          <a:xfrm>
            <a:off x="380880" y="24382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57200" y="264924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 sports or entertainment entity permit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licensee to use their image, name or characte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for a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 corporation permits a licensee to us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orporate image or name for a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9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59" name="Text Box 10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1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1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447920" y="167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Character vs. Corporate Licen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362556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aveng"/>
          <p:cNvPicPr/>
          <p:nvPr/>
        </p:nvPicPr>
        <p:blipFill>
          <a:blip r:embed="rId1"/>
          <a:stretch/>
        </p:blipFill>
        <p:spPr>
          <a:xfrm>
            <a:off x="3505320" y="3581280"/>
            <a:ext cx="2133360" cy="1036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nascar"/>
          <p:cNvPicPr/>
          <p:nvPr/>
        </p:nvPicPr>
        <p:blipFill>
          <a:blip r:embed="rId2"/>
          <a:stretch/>
        </p:blipFill>
        <p:spPr>
          <a:xfrm>
            <a:off x="6629400" y="5410080"/>
            <a:ext cx="1828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Line 3"/>
          <p:cNvSpPr/>
          <p:nvPr/>
        </p:nvSpPr>
        <p:spPr>
          <a:xfrm>
            <a:off x="380880" y="259092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457200" y="296856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Increased opportunity to associate with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thlete, sports team, entertainer, or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Increased supply of avail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ompetition can result in lower prices,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products and bet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69" name="Text Box 10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2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457200" y="17517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How does licensing affect the end custom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354960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75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Intro to Basic SEM Princi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5"/>
          <p:cNvSpPr/>
          <p:nvPr/>
        </p:nvSpPr>
        <p:spPr>
          <a:xfrm>
            <a:off x="457200" y="1066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tainment Business Financi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457200" y="204156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is Saint-Germain and Fanatics announced a ten-year e-commerce, manufacturing and licensing deal in 2020, expanding the volume of branded products available to f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76320" y="-1027080"/>
            <a:ext cx="215244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76320" y="-1027080"/>
            <a:ext cx="215244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FANATICS STRIKES PSG DEAL - CSGA"/>
          <p:cNvPicPr/>
          <p:nvPr/>
        </p:nvPicPr>
        <p:blipFill>
          <a:blip r:embed="rId1"/>
          <a:stretch/>
        </p:blipFill>
        <p:spPr>
          <a:xfrm>
            <a:off x="2301840" y="3843360"/>
            <a:ext cx="4540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04920" y="1827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Factors contributing to the appeal of licens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28600" y="2590920"/>
            <a:ext cx="86104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39696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57200" y="3063600"/>
            <a:ext cx="83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Intangibility of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Consumer affinity for their favorite teams, leagues, celebrities and/or b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Brand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30" name="Text Box 12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30492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Blank Slide Available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for Teacher 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85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0" y="1295280"/>
            <a:ext cx="16700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ding &amp; 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0" y="380880"/>
            <a:ext cx="655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6.3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828800" y="1295280"/>
            <a:ext cx="73152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the licens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censees pay an initial, one-tim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censing fee for the use of specific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demarked images for use in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on of company products.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censees then take on production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ssues and assume the risk by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anufactu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5181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1295280"/>
            <a:ext cx="16700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ding &amp; 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380880"/>
            <a:ext cx="655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6.3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447920" y="1371600"/>
            <a:ext cx="72388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advantages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advantages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cen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License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advantages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sitive association with the sports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Greater levels of bran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elp to build brand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ceive initial distribution with reta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xpanded and improved shel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181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1295280"/>
            <a:ext cx="16700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ding &amp; 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0" y="380880"/>
            <a:ext cx="655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6.3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447920" y="1371600"/>
            <a:ext cx="72388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advantages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advantages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cen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License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advantages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ay be able to charge higher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tential to lower advertising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motion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ncreased possibility of success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nection with an athlete, sports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eam, entertainer, or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5181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1295280"/>
            <a:ext cx="16700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ding &amp; 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0" y="38088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6.3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447920" y="1371600"/>
            <a:ext cx="72388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advantages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advantages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cen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License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disadvantages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thlete, league, celebrity, organization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 sport may fall into disf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uccess depends on athlete/celebrity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tyles change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oyalties and licensing fees can b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5181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1295280"/>
            <a:ext cx="16700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ding &amp; 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0" y="380880"/>
            <a:ext cx="655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SON 6.3 REVIEW (ANS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447920" y="1371600"/>
            <a:ext cx="72388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advantages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advantages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cen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License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disadvantages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anufacturing costs and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mpetition can drive up costs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ssociated with licensing f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mpetition can have a negativ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pact on market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5181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5994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ee 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39696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33520" y="254376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ositive association with the sports entity or entertainment prop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Greater levels of bran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Help to build brand equ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Receive initial distribution with reta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Expanded and improved shel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38" name="Text Box 12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3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4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362320" y="16758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ee 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380880" y="24382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39696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09480" y="254124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May be able to charge higher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Lower advertising and promotion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Increased possibility of success and 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onnection with an athlete, sports te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entertainer, or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46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057400" y="15994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ee </a:t>
            </a:r>
            <a:r>
              <a:rPr b="0" i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Dis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39696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04920" y="272376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Athlete, league, celebrity or sport may fall i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disf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uccess depends on athlete / celeb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yles change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Royalties and licensing fees can b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54" name="Text Box 1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3"/>
          <p:cNvSpPr/>
          <p:nvPr/>
        </p:nvSpPr>
        <p:spPr>
          <a:xfrm>
            <a:off x="380880" y="228600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39696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57200" y="243504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Manufacturing costs and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ompetition can drive up costs associat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fees and roy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Competition can have a negative impact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market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61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2057400" y="15994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ee </a:t>
            </a:r>
            <a:r>
              <a:rPr b="0" i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Dis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438280" y="1675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or 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380880" y="24382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54960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600200" y="2971800"/>
            <a:ext cx="64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xpansion into 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Increase its br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Minimize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70" name="Text Box 1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2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04920" y="28954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nhanced company image and 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Increased profit from fees and roy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Increased brand awareness or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75" name="Text Box 7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438280" y="1675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or 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380880" y="243828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54960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533520" y="304632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May lose some control over the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of the marketing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Potential for poor quality of a licensee</a:t>
            </a:r>
            <a:r>
              <a:rPr b="0" lang="ja-JP" sz="2800" spc="-1" strike="noStrike">
                <a:solidFill>
                  <a:srgbClr val="008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manufactur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83" name="Text Box 11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Branding &amp; Licen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3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380880" y="2514600"/>
            <a:ext cx="83059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3396960" y="914400"/>
            <a:ext cx="20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2057400" y="17517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Licensor </a:t>
            </a:r>
            <a:r>
              <a:rPr b="0" i="1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Dis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  <a:ea typeface="Times New Roman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03:36Z</dcterms:created>
  <dc:creator>Copyright © 2012 by Sports Career Consulting, LLC</dc:creator>
  <dc:description/>
  <dc:language>en-US</dc:language>
  <cp:lastModifiedBy>Chris Lindauer</cp:lastModifiedBy>
  <dcterms:modified xsi:type="dcterms:W3CDTF">2020-08-20T23:46:07Z</dcterms:modified>
  <cp:revision>332</cp:revision>
  <dc:subject/>
  <dc:title>Lesson 6.3 - Slides-Licensing Process</dc:title>
</cp:coreProperties>
</file>